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7EF-B9D4-45AD-8430-A37AED3E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6B9F-9A53-435C-8FE0-CB0EA825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80F0-286C-45C1-B801-A67D419F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91C4-6C13-4D8C-88E9-7F68ECD1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DFA-3FF4-4DA8-8844-29091028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450-5CB4-4D7F-B2C0-9721AA85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C971-D574-474F-A564-4618CAE8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9C8C-87E8-44BC-98A3-7113A5BD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F1B2-D4F2-47BA-98FD-57B42EEE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EB24-A536-49AC-93C8-09A77FB5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1B5-A4AE-4FD4-84C2-A4ECBF45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F92-430C-4F58-AED1-C90CEA8B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6882-4B49-4802-9D63-F8C3A428A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GIZ</a:t>
            </a:r>
            <a:br>
              <a:rPr sz="4400"/>
            </a:br>
            <a:r>
              <a:rPr b="1" lang="sr-Latn-CS" sz="4400" spc="-1" strike="noStrike">
                <a:solidFill>
                  <a:srgbClr val="a50021"/>
                </a:solidFill>
                <a:latin typeface="Arial"/>
              </a:rPr>
              <a:t>Profesionalna orijentacija na prelasku u srednju ško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44197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odeli implementacije programa profesionalne orijenta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odeli implementa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Krukulum: 7. i 8. razred – nastava profesionalne orijent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nterdisciplinarno/kroskurikularno – integrisana u nastavne predm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O u okviru projek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Kurikul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mostalan predmet se više ce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 u toku godine sa jednim časom nedeljno omogućava primenu petofaznog model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napredjuje se I razvija lična, predmetna I metodička kompetenci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ci doživljavaju aktivnu nast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tvoreni vidovi uče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bezbedjena primena vežb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ljučne kompetencije se prenose na efikasan nač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nažnije otvaranje škole prema spoljnjem svetu – 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ogućnost organizacije realnih susre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ransparentnost o zbivanjima u nastavi za roditelje/staratel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anje posla oko koordinac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oditelji/staratelji prepoznaju dobit za decu kroz pripremu za buduće zanimanje I školova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o praćen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" sz="2000" spc="-1" strike="noStrike">
                <a:solidFill>
                  <a:srgbClr val="a50021"/>
                </a:solidFill>
                <a:latin typeface="Arial"/>
              </a:rPr>
              <a:t>Interdisciplinarno/kroskurikularno – integrisana u nastavne predm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U 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7.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8.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razredu integriš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sa</a:t>
            </a:r>
            <a:r>
              <a:rPr b="0" lang="sr-CS" sz="2000" spc="-1" strike="noStrike">
                <a:solidFill>
                  <a:srgbClr val="a50021"/>
                </a:solidFill>
                <a:latin typeface="Arial"/>
              </a:rPr>
              <a:t> 30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časova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 u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met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preda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se 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interdisciplina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dlik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e prepoznavanje značaja PO za nastavnike, roditelje/staratelje I eksterne školske partn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Više posla oko koordin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orijentisanost prema nastavnom pl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težana realizacija petofaznog modela u prak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kontinuiteta za razvoj kompetencije orijentaci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voljno vežbi sa primenom različitih meto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eže otvaranje škole iz organizacionih razlo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anja mogućnost za sprovodje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edostatak transparentnosti za roditelje/staratel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Dodatni časovi za ostvarivanje realnih susr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4000" spc="-1" strike="noStrike">
                <a:solidFill>
                  <a:srgbClr val="a50021"/>
                </a:solidFill>
                <a:latin typeface="Arial"/>
              </a:rPr>
              <a:t>PO u okviru projek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anje se opaža značaj PO kao doprinos životnoj orijentacij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no je još termina od jednog ( školska godina ) za projek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petofazng modela može duže da tr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mpetencija orijentacije može da se razvija I unapredju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na otvorenih vidova učenja postoji ali nedostaje kontinuit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tvaranje škole prema spolja zavisi od strukture projek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eći poslovi koordinaci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datni časovi za realne susrete u 7. I 8. razr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no ostvarljivo u praksi - potvrdjuje iskustvo iz pilot projek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153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Kompetencije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 k</a:t>
            </a:r>
            <a:r>
              <a:rPr b="0" lang="sr-Latn-CS" sz="2000" spc="-1" strike="noStrike">
                <a:solidFill>
                  <a:srgbClr val="a50021"/>
                </a:solidFill>
                <a:latin typeface="Arial"/>
              </a:rPr>
              <a:t>oordinator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a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04920" y="1143000"/>
          <a:ext cx="8610480" cy="57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143000"/>
                    <a:ext cx="86104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Mala </a:t>
            </a: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pomoć prijatelja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43828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 predm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 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odeljenjske zajednice za učenike/ce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kroz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ovi slobodnih vannastavnih aktivnosti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91520" cy="6591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a50021"/>
                </a:solidFill>
                <a:latin typeface="Arial"/>
              </a:rPr>
              <a:t>Vaš predlog</a:t>
            </a: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 je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1-10-04T13:20:40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